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E140-93DE-4321-9DA9-85970F7C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F9D9-7964-4088-9A77-562F72A9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BCC-D227-4CED-9B0F-041C10A5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5E71-8562-483E-A7D7-935932AD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76D9-2B5B-4DE4-8FA6-AD981679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6E24-F352-482A-B090-BAF31CF2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E359-1103-4646-8344-3BBD3A6C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6832-8412-4CEC-9D60-313C3AE6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0F8-749E-4190-8E99-5CFF77AB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283B-3414-45FC-B7D4-8118B376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B30A-5844-439A-B858-8865AC45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1084-571F-43F6-9FB3-E21B391F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E455-F3C0-4F65-9178-51B7C2E69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lution – controversial statement being deb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irmative- speaker (s) in support of the re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ative – speakers (s) against the re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den of proof – the duty of proving the resolution true (always belongs to aff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520488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or – runs the debate, keeps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us quo – current state of aff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ve – speech in which speakers build their case in favor of or against the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buttal – speech in which speakers refute and rebuild thei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examination – questioning of the opposing s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equent speaker – member of the audience who volunteers to speak in favor of or against the re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coln- Doug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firmative – 6 minute constructive spe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gative – 3 minute cross-examin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gative – 7 minute constructive speech (including refuta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firmative – 3 minute cross-examin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firmative – 4 minute rebuttal spe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gative – 6 minute rebuttal and 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firmative – 3 minute rebuttal and 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SA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firmative – 6 minute constructi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gative – 6 minute constructi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firmative – 3 minute subsequent spe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gative – 3 minute subsequent spe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bsequent speeches as time and interest all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gative – 3 minute rebuttal and 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firmative – 3 minute rebuttal and 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to do if you have time lef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nd you shouldn’t have too much time lef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ield time to the chair. (Sit down and b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ield time to questions. (Answer questions from the audienc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rator’s responsibiliti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oint a timekeeper and make sure they know the sign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the re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e the deba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order. Remind people of rules of deco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 on questions and subsequent speak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the vote at the end of the deb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 out and count best speaker ballo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ounce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7:36:03Z</dcterms:created>
  <dc:creator>username</dc:creator>
  <dc:description/>
  <dc:language>en-US</dc:language>
  <cp:lastModifiedBy>username</cp:lastModifiedBy>
  <dcterms:modified xsi:type="dcterms:W3CDTF">2009-06-16T14:23:38Z</dcterms:modified>
  <cp:revision>2</cp:revision>
  <dc:subject/>
  <dc:title>Debate</dc:title>
</cp:coreProperties>
</file>